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EC4F-DE1C-4901-99A7-711DEAEE1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0EAA-775A-42AC-9E04-ABB275AE2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F2DD-07E6-4B64-96FA-F369A754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BC4D-4DF4-4475-94E7-11E68E5F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A0C2-E193-45BC-AD5A-89CB670D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B544-A304-4421-9ED8-2EA964AD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19E5-C1C3-4194-AAA6-97335E6C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9556-08EC-43CD-AE10-0A553D2F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93D6-4821-4F0A-A794-E269A807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3A31-D715-4152-9B1E-C3B6DFD4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A5EB-957B-4779-AAEA-ECE91EF4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D34F-5997-4E5C-8671-97D66DFC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5ED5-852F-4916-876D-01B340B5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AB01-0E8A-40B2-87A6-E79B174B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988E-1D2A-4736-8247-5BEDA664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4AF7-4A9C-428E-B2F3-8AE44641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4A03-8632-47EF-8128-E7C8B95D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6883-502F-47B5-B44F-D0208381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3AED-C394-4929-BAA6-C4964AE7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C903-47A2-475E-9516-0F7C492B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C37F-9A99-4599-98DD-2EF84C73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12AA-8731-4D76-8A13-5FAF4821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6C8-942F-43CE-ACA2-E66A73A9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1AD7-1C67-464F-B0D0-38443334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06AD-0BD9-48D2-972B-C7BA19F0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7EE5-130B-435D-A1E4-40349BA0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4BF8-E032-4083-9C41-524F1F3F777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A461-155C-49A5-8F65-7AE7C9917AC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hysics Course of Study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79080" y="2133720"/>
            <a:ext cx="5349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Explain linear, uniform circular, and projectile motions using one- and two-dimensional vector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Explaining the significance of slope and area under a curve when graphing distance-time or velocity-time data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lope and area of a velocity-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ime curve giving acceleration and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stance traveled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Describing forces that act on an object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rawing a free-body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agram showing all forces acting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n an object and resultant effects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 friction, gravity, and normal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rce on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 object sliding down an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clined plane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9080" y="3571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4920" y="914400"/>
            <a:ext cx="57308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Define the law of conservation of momentum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alculating the momentum of a single object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 Calculating momenta of two objects before and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fter collision in one-dimensional motion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  Explain planetary motion and navigation in space in terms of Kepler's and Newton's laws. 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  Describe quantitative relationships for velocity, acceleration, force, work, power, potential and kinetic energy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 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lain the concept of entropy as it relates to heating and cooling, using the laws of thermodynamic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ing qualitative and quantitative methods to show the relationship between changes in heat energy and changes in temperature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3571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457200"/>
            <a:ext cx="5426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. 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cribe wave behavior in terms of reflection, refraction, diffraction, constructive and destructive wave interference, and the Doppler effect. 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 Explaining reasons for differences in speed, frequency and wavelength of a propagating wave in varying materials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 Describing uses of different components of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electromagnetic spectrum, including X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ays, and gamma radiation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.  Describe the properties of reflection, refraction, and diffraction. Examples:  tracing path of light through mirrors, lenses, and prisms, predicting formation of reflected images through tracing of rays 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Demonstrating the path of light through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irrors, lenses, and prism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ample:  tracing the path of a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racted light ray through prisms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ing Snell's law 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Describing the effect of filters and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olarization on the transmission of light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Demonstrating particle and wave duality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Describing the change of wave speed in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fferent media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80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.  Summarize similarities in the calculation of electrical, magnetic, and gravitational forces between objects.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Determining the force on charged particles using Coulomb's law </a:t>
            </a:r>
            <a:br>
              <a:rPr sz="1400"/>
            </a:b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 9.  Describe quantitative relationships amo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rge, current, electrical potential energ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otential difference, resistance,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ctrical power for simple series, paralle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 combination direct curr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C) circui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21:56:34Z</dcterms:created>
  <dc:creator>eholsenbeck</dc:creator>
  <dc:description/>
  <cp:keywords/>
  <dc:language>en-US</dc:language>
  <cp:lastModifiedBy>eholsenbeck</cp:lastModifiedBy>
  <dcterms:modified xsi:type="dcterms:W3CDTF">2008-05-28T22:17:37Z</dcterms:modified>
  <cp:revision>9</cp:revision>
  <dc:subject/>
  <dc:title>Physics Course of Stu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